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7045325" cy="9345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DAC8-C989-4012-AA88-70C965D62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E67B-D1B3-418F-B9B5-7C6ED8950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79A8-CFE3-486F-8A9A-501C4F898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777D-4087-43F3-B2FF-64651537A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EED9-6343-4192-B636-2D01E4250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7864-5D72-4172-99AF-14B065F8E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6D6A-A7FD-49F2-A88A-05786DBD5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0743-F961-47D3-863C-03147279F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440B-3783-46CB-843C-B1D709AF6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B230-1FCE-4A60-B005-6EFA9B78A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37CF-DCDA-4DF6-8684-DFB79BB51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D000-06AF-405E-9FA5-13F412E2F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D59B3-799A-49F8-A522-1B7D37BFD2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277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80880" y="2133720"/>
            <a:ext cx="4572000" cy="5173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90880" y="178920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ive 1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696080" cy="68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8229600" cy="8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780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8610840" cy="10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05520" cy="4273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62120" y="3429000"/>
            <a:ext cx="13716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1T14:35:49Z</dcterms:created>
  <dc:creator>grahams</dc:creator>
  <dc:description/>
  <dc:language>en-US</dc:language>
  <cp:lastModifiedBy>grahams</cp:lastModifiedBy>
  <dcterms:modified xsi:type="dcterms:W3CDTF">2012-03-22T12:53:07Z</dcterms:modified>
  <cp:revision>3</cp:revision>
  <dc:subject/>
  <dc:title>Slide 1</dc:title>
</cp:coreProperties>
</file>